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0C0CC-A662-4604-9068-2024F5CA5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82016-E936-4C1B-810E-0484D367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A4DFB-9D16-44BB-A763-331100BD4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3EB8A-347D-43A8-99E7-BE0065370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30721-9AD0-4238-87E0-ECC4FBD53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D3AD9-E3EB-4B0F-8B36-C6CB75A3C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41B4E-042A-4767-A79A-EA3D5B45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9F517-7545-4D2B-AEDB-DA0BE2C9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2C73F-89D6-471A-972F-E6EB3CD2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AD3D-FE4D-4CE9-BC76-6940265D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A303B-B3DF-49F5-A97F-2CC25280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C94F0-C0F2-460E-B81E-EF30E8A1E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D3D3-5AF2-48F2-BA63-871A20A3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63281-F7DB-4ED4-AC3B-EF505496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7490A-D80E-4D74-BCBB-402BBF61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646C3-EF69-4CEF-8989-B33C24A6A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70997-A7A9-42A4-8885-02DD3B972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0FF852-EBF6-4E9F-B291-0F989E06E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15C27-E5BB-4B38-A2D2-F7F90A4CB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480CF8-46E4-4907-8DBB-F13C8BDBC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F4CBB-849A-4D59-A07C-B3D5322D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9A1E69-47FA-4567-B302-B8279CCE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221D7-F061-4CAA-B20B-E1C94AC5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2962B-6CEF-41E4-8C12-058EF218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7d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F489-DE8C-4381-990B-82A6ABC1918B}" type="slidenum">
              <a:rPr b="0" lang="en-US" sz="1200" spc="-1" strike="noStrike">
                <a:solidFill>
                  <a:srgbClr val="00007d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E217-C8F0-4C44-9B9F-3AE06F0096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AICT5 – PM Scenario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Scenario familiarisation</a:t>
            </a:r>
            <a:endParaRPr b="0" lang="en-US" sz="3400" spc="-1" strike="noStrike">
              <a:solidFill>
                <a:srgbClr val="00007d"/>
              </a:solidFill>
              <a:latin typeface="Arial"/>
            </a:endParaRPr>
          </a:p>
          <a:p>
            <a:pPr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Set groups</a:t>
            </a:r>
            <a:endParaRPr b="0" lang="en-US" sz="3400" spc="-1" strike="noStrike">
              <a:solidFill>
                <a:srgbClr val="00007d"/>
              </a:solidFill>
              <a:latin typeface="Arial"/>
            </a:endParaRPr>
          </a:p>
          <a:p>
            <a:pPr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Identify stakeholders.</a:t>
            </a:r>
            <a:endParaRPr b="0" lang="en-US" sz="34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3</a:t>
            </a:r>
            <a:r>
              <a:rPr b="0" lang="en-US" sz="4400" spc="-1" strike="noStrike" baseline="30000">
                <a:solidFill>
                  <a:srgbClr val="00007d"/>
                </a:solidFill>
                <a:latin typeface="Arial"/>
              </a:rPr>
              <a:t>rd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 meeting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Establish a plan and identify deadlines to achieve the clients requirements 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Look at AICT 5.6 “stages” to identify the milestones 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Look at AICT 5.6 “planning” to consider level of detail required.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Could split each group in half and each produce plan, then meet later to discuss it etc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4</a:t>
            </a:r>
            <a:r>
              <a:rPr b="0" lang="en-US" sz="4400" spc="-1" strike="noStrike" baseline="30000">
                <a:solidFill>
                  <a:srgbClr val="00007d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 and subsequent meeting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Look at the “team work” webpage of the scenario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Initial meeting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et key discussion points: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Assign group roles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Create key documents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rocedures for storing and protecting information the group produces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Tracking and monitoring of progress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Group role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Individually, you are all project managers.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Within the group, you are NOT!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ssign roles: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Project Leader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Manage the project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May assign tasks and roles to subordinates.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Team members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Undertake the tasks that PL has assigned to them.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Update minutes and decide upon action points, deadlines etc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56360" y="3068640"/>
            <a:ext cx="792000" cy="1368360"/>
          </a:xfrm>
          <a:custGeom>
            <a:avLst/>
            <a:gdLst>
              <a:gd name="textAreaLeft" fmla="*/ 0 w 792000"/>
              <a:gd name="textAreaRight" fmla="*/ 285840 w 7920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164360" y="2276640"/>
            <a:ext cx="14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a record of how the PL was chosen – you may want to refer back to it in the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20000" y="404640"/>
            <a:ext cx="1657440" cy="936720"/>
          </a:xfrm>
          <a:prstGeom prst="wedgeRectCallout">
            <a:avLst>
              <a:gd name="adj1" fmla="val 28833"/>
              <a:gd name="adj2" fmla="val 205425"/>
            </a:avLst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strengths did they ha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Key Document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36280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Create the following as templates: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Examples can be found in the AICT 5 Standard Business Documents folder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Keep a record of decisions you have made in creating the design, layout, etc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Update minutes and decide upon action points, deadlines etc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No prototyping needed at this stage!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Group Organisatio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3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Decide upon a standard way of working that the group will follow regarding the storing and protecting of information the group produces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Decide how you will track and monitor the progress of the overall group and individuals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Update minutes and decide upon action points, deadlines etc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00007d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 Meeting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Understanding the Client Requirements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Identify stakeholders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Understanding the Client Requirements</a:t>
            </a:r>
            <a:endParaRPr b="0" lang="en-US" sz="4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3628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Carefully read through the scenario and requirements web pages. 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Identify the key points.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omeone in each group needs to record the minutes of the meeting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These can be written or recorded. 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MUST be typed up later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Identify stakeholder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291520" cy="39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Read through pages 138-141 Edexcel GCE in Applied ICT A2 Single Award.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Discuss scenario to identify: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Stakeholders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What interest they have in the organisation?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If you haven’t already discussed this, “how will they be affected?”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Minutes of the discussion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2T13:34:05Z</dcterms:created>
  <dc:creator>H S Tamber</dc:creator>
  <dc:description/>
  <dc:language>en-US</dc:language>
  <cp:lastModifiedBy>HSTamber</cp:lastModifiedBy>
  <dcterms:modified xsi:type="dcterms:W3CDTF">2009-09-29T20:16:11Z</dcterms:modified>
  <cp:revision>52</cp:revision>
  <dc:subject/>
  <dc:title>Slide 1</dc:title>
</cp:coreProperties>
</file>