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A2A6-CBB8-4AFE-ADB3-5D016C0C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5C3A-1C7E-49C5-A3DF-6C7D79DC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C467-1226-41E6-A689-69D971E9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B430-265A-4779-BDE1-D78C0BA4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1443-5B00-40B8-A3E0-7D628C2F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397F-0479-4796-8EA9-6BC58452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B6E7-0B13-44CE-AF12-6E2E180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5523-DB9C-4587-9D1F-40DCB702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02B0-6561-43E5-8128-F81D681D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2DF6-2CDE-420F-B741-4DC3F026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0B0F-CF2D-4C91-8DF2-A44FCFBB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1C34-CFAD-4789-8170-BC8F371E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CEE6-EDAE-456D-9ED0-9907088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1EC0-DF38-4E29-85B0-E627FD60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25E9-273E-41C8-ABE2-E71A9037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DAA6-1900-4351-A142-64704F02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E066-0C15-4E2B-A82F-C0968C9B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ABAC-4026-4D65-8E36-79945B26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CC75-710B-4B50-9EB3-EC98A9A3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8D0D-0330-411D-A07F-EFD514E0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6CA5-4F60-4E4C-B7A3-5988D06B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E213-FABF-4D8A-AED5-D862A443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18C1-19A4-4957-9BBA-4687B15D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1A832-2139-401A-BED0-43B01CA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5E7F-80FE-4EDD-BBB5-EB8F5D787F32}" type="slidenum">
              <a:rPr b="0" lang="en-US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0E7E-36EC-410B-85C3-A2C8722A24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ICT5 – PM Scenario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cenario familiarisation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et groups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Identify stakeholders.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stablish a plan and identify deadlines to achieve the clients requirement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stages” to identify the milestone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planning” to consider level of detail required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uld split each group in half and each produce plan, then meet later to discuss it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and subsequent meetin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ook at the “team work” webpage of the scenario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itial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t key discussion points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sign group rol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key docum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cedures for storing and protecting information the group produc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cking and monitoring of progres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ro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dividually, you are all project managers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thin the group, you are NOT!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ssign roles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nage the projec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y assign tasks and roles to subordinates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eam member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dertake the tasks that PL has assigned to them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068640"/>
            <a:ext cx="792000" cy="1368360"/>
          </a:xfrm>
          <a:custGeom>
            <a:avLst/>
            <a:gdLst>
              <a:gd name="textAreaLeft" fmla="*/ 0 w 792000"/>
              <a:gd name="textAreaRight" fmla="*/ 285840 w 792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14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record of how the PL was chosen – you may want to refer back to it in th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04640"/>
            <a:ext cx="1657440" cy="936720"/>
          </a:xfrm>
          <a:prstGeom prst="wedgeRectCallout">
            <a:avLst>
              <a:gd name="adj1" fmla="val 28833"/>
              <a:gd name="adj2" fmla="val 205425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strengths did the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 Docum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362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the following as templates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xamples can be found in the AICT 5 Standard Business Documents fold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eep a record of decisions you have made in creating the design, layout,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o prototyping needed at this stage!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Organis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upon a standard way of working that the group will follow regarding the storing and protecting of information the group produce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how you will track and monitor the progress of the overall group and individual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arefully read through the scenario and requirements web pages.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the key point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omeone in each group needs to record the minutes of the meet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se can be written or recorded.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UST be typed up lat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Read through pages 138-141 Edexcel GCE in Applied ICT A2 Single Award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Discuss scenario to identify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hat interest they have in the organisation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you haven’t already discussed this, “how will they be affected?”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inutes of the discu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3:34:05Z</dcterms:created>
  <dc:creator>H S Tamber</dc:creator>
  <dc:description/>
  <dc:language>en-US</dc:language>
  <cp:lastModifiedBy>HSTamber</cp:lastModifiedBy>
  <dcterms:modified xsi:type="dcterms:W3CDTF">2009-09-29T20:16:11Z</dcterms:modified>
  <cp:revision>52</cp:revision>
  <dc:subject/>
  <dc:title>Slide 1</dc:title>
</cp:coreProperties>
</file>