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FF4E9-6D32-43F5-B071-497F380D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BC3BE-D97F-48E7-8C82-E932F929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89A3-FEC1-47BC-8FBE-7199B77F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C1608-A739-489B-8B79-A5179342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28A9-297E-4B43-81ED-3F901EC9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F10B-7EB3-4EE6-9780-F2CFBC8F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B885-D308-4B71-9487-9AC5A63C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2F87-1CB6-4E98-8778-89DECDE7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FB1C-5D5C-4404-8C52-3B28A09D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D72A-AEB8-44C9-B704-B00D2161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B7C6-82B4-4617-9109-BE359536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4430F-2BF5-4383-90DE-2765C196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9C80-548F-4F4F-B95E-E4C68C1A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584A-7E13-4468-B7DA-8F12B0C1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8467-D470-4FB4-9751-CB658CFA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E38A-EB6B-49F4-AC03-03F394FF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5CEE-2AE1-475E-B5A7-5E4CB9CE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B0A6B-3D00-46E7-B27A-D2F40A47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24C95-9E66-47F5-A968-992DB9A9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E7604-7D66-4579-A06D-397455DE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9B287-D4CE-4437-85E4-E2ECE17F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6ED86-B763-4451-AC6A-3311EB2E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97E4-3F29-4131-A411-09C4DA74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B9D23-B616-4B95-BE23-5211D33E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7d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F8CA-804D-4D74-9CE0-F1355276B9DC}" type="slidenum">
              <a:rPr b="0" lang="en-US" sz="1200" spc="-1" strike="noStrike">
                <a:solidFill>
                  <a:srgbClr val="00007d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CD24-8EDB-480D-A8D2-BC3E7B0130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ICT5 – PM Scenario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Scenario familiarisation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Set groups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Identify stakeholders.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stablish a plan and identify deadlines to achieve the clients requirements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Look at AICT 5.6 “stages” to identify the milestones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Look at AICT 5.6 “planning” to consider level of detail required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ould split each group in half and each produce plan, then meet later to discuss it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and subsequent meeting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Look at the “team work” webpage of the scenario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nitial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t key discussion points: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ssign group role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reate key document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rocedures for storing and protecting information the group produce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racking and monitoring of progres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Group rol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ndividually, you are all project managers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Within the group, you are NOT!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ssign roles: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ject Leader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nage the project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y assign tasks and roles to subordinates.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eam member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Undertake the tasks that PL has assigned to them.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3068640"/>
            <a:ext cx="792000" cy="1368360"/>
          </a:xfrm>
          <a:custGeom>
            <a:avLst/>
            <a:gdLst>
              <a:gd name="textAreaLeft" fmla="*/ 0 w 792000"/>
              <a:gd name="textAreaRight" fmla="*/ 285840 w 792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2276640"/>
            <a:ext cx="14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record of how the PL was chosen – you may want to refer back to it in the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404640"/>
            <a:ext cx="1657440" cy="936720"/>
          </a:xfrm>
          <a:prstGeom prst="wedgeRectCallout">
            <a:avLst>
              <a:gd name="adj1" fmla="val 28833"/>
              <a:gd name="adj2" fmla="val 205425"/>
            </a:avLst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strengths did they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Key Documen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3628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reate the following as templates: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xamples can be found in the AICT 5 Standard Business Documents folder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eep a record of decisions you have made in creating the design, layout,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o prototyping needed at this stage!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Group Organis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de upon a standard way of working that the group will follow regarding the storing and protecting of information the group produces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de how you will track and monitor the progress of the overall group and individuals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Understanding the Client Requirement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Identify stakeholder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Understanding the Client Requirements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362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arefully read through the scenario and requirements web pages.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Identify the key points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omeone in each group needs to record the minutes of the meeting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hese can be written or recorded.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UST be typed up later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dentify stakeholder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29152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Read through pages 138-141 Edexcel GCE in Applied ICT A2 Single Award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Discuss scenario to identify: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What interest they have in the organisation?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f you haven’t already discussed this, “how will they be affected?”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Minutes of the discussion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3:34:05Z</dcterms:created>
  <dc:creator>H S Tamber</dc:creator>
  <dc:description/>
  <dc:language>en-US</dc:language>
  <cp:lastModifiedBy>HSTamber</cp:lastModifiedBy>
  <dcterms:modified xsi:type="dcterms:W3CDTF">2009-09-29T20:16:11Z</dcterms:modified>
  <cp:revision>52</cp:revision>
  <dc:subject/>
  <dc:title>Slide 1</dc:title>
</cp:coreProperties>
</file>