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AAE7EF-4C04-4B3B-8C74-3D835B5CC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AB1AA-ED6A-44A2-8AA9-6F406ABC8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6E0622-CB48-44BB-8420-E69B1B3DB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D2308-947B-4429-B2A3-F47A653AE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55C91-6D56-4139-8C2E-1550A426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3896-2FC6-4143-881D-F1F71E90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7EEA-049C-41D4-936F-63F3BCBE1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E23F-0842-4FD9-A6C5-6317986D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7F35-0481-4C82-ACD3-1990257C1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94B6-2381-4EB2-9F9E-7D5DA729E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0AAA-A34D-4044-9D63-49E70FD4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71539-176F-49EE-93FD-818BB2A4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BA47-24BE-44BD-8125-FB853017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23FD-179F-4F41-95B1-956EC8100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BFBFB-64AB-4EF7-93A8-F4EE10B8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1484-1DD4-4B89-A55D-289F436A4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84BB-B7A9-420C-B3BF-44E853C8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4196D-6B6F-4557-A68B-0C222584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FE6FB-D76B-4079-91A2-07300707F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4043C-0825-483F-85AD-D2A01213D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D343F-E43F-4E7F-9418-720C30CA9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5A7B71-5E15-4222-ADCB-C66308180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96977-398C-449D-BCA4-ACBDF2622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C2671-E485-4EB2-846B-4D1B94FF4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7d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3C38-C003-4724-BC11-402864506AB2}" type="slidenum">
              <a:rPr b="0" lang="en-US" sz="1200" spc="-1" strike="noStrike">
                <a:solidFill>
                  <a:srgbClr val="00007d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F7D01-4A01-4E86-BC03-9DA524BB180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AICT5 – PM Scenario</a:t>
            </a:r>
            <a:endParaRPr b="0" lang="en-US" sz="5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Scenario familiarisation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Set groups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  <a:p>
            <a:pPr>
              <a:spcBef>
                <a:spcPts val="85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Identify stakeholders.</a:t>
            </a:r>
            <a:endParaRPr b="0" lang="en-US" sz="34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rd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stablish a plan and identify deadlines to achieve the clients requirements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Look at AICT 5.6 “stages” to identify the milestones 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Look at AICT 5.6 “planning” to consider level of detail required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ould split each group in half and each produce plan, then meet later to discuss it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4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th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and subsequent meeting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Look at the “team work” webpage of the scenario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620640"/>
            <a:ext cx="9144000" cy="62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nitial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et key discussion points: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Assign group rol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reate key document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rocedures for storing and protecting information the group produce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racking and monitoring of progres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Group role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Individually, you are all project managers.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Within the group, you are NOT!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ssign roles: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Project Leader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nage the project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May assign tasks and roles to subordinates.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Team member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Undertake the tasks that PL has assigned to them.</a:t>
            </a:r>
            <a:endParaRPr b="0" lang="en-US" sz="20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156360" y="3068640"/>
            <a:ext cx="792000" cy="1368360"/>
          </a:xfrm>
          <a:custGeom>
            <a:avLst/>
            <a:gdLst>
              <a:gd name="textAreaLeft" fmla="*/ 0 w 792000"/>
              <a:gd name="textAreaRight" fmla="*/ 285840 w 79200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164360" y="2276640"/>
            <a:ext cx="147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ep a record of how the PL was chosen – you may want to refer back to it in the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20000" y="404640"/>
            <a:ext cx="1657440" cy="936720"/>
          </a:xfrm>
          <a:prstGeom prst="wedgeRectCallout">
            <a:avLst>
              <a:gd name="adj1" fmla="val 28833"/>
              <a:gd name="adj2" fmla="val 205425"/>
            </a:avLst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strengths did they hav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Key Document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980720"/>
            <a:ext cx="83628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Create the following as templates: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7d"/>
                </a:solidFill>
                <a:latin typeface="Arial"/>
              </a:rPr>
              <a:t>Minutes</a:t>
            </a:r>
            <a:endParaRPr b="0" lang="en-US" sz="24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Examples can be found in the AICT 5 Standard Business Documents folder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eep a record of decisions you have made in creating the design, layout,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o prototyping needed at this stage!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Group Organisation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de upon a standard way of working that the group will follow regarding the storing and protecting of information the group produces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Decide how you will track and monitor the progress of the overall group and individuals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Update minutes and decide upon action points, deadlines etc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4400" spc="-1" strike="noStrike" baseline="30000">
                <a:solidFill>
                  <a:srgbClr val="00007d"/>
                </a:solidFill>
                <a:latin typeface="Arial"/>
              </a:rPr>
              <a:t>nd</a:t>
            </a: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 Meeting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Understanding the Client Requirement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dentify stakeholders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Understanding the Client Requirements</a:t>
            </a:r>
            <a:endParaRPr b="0" lang="en-US" sz="40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3628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Carefully read through the scenario and requirements web pages. 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Identify the key points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Someone in each group needs to record the minutes of the meeting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These can be written or recorded. 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UST be typed up later.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Arial"/>
              </a:rPr>
              <a:t>Identify stakeholders</a:t>
            </a:r>
            <a:endParaRPr b="0" lang="en-US" sz="4400" spc="-1" strike="noStrike">
              <a:solidFill>
                <a:srgbClr val="00007d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980720"/>
            <a:ext cx="8291520" cy="39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Read through pages 138-141 Edexcel GCE in Applied ICT A2 Single Award.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Discuss scenario to identify: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Stakeholders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What interest they have in the organisation?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If you haven’t already discussed this, “how will they be affected?”</a:t>
            </a:r>
            <a:endParaRPr b="0" lang="en-US" sz="2800" spc="-1" strike="noStrike">
              <a:solidFill>
                <a:srgbClr val="00007d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Arial"/>
              </a:rPr>
              <a:t>Minutes of the discussion</a:t>
            </a: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2T13:34:05Z</dcterms:created>
  <dc:creator>H S Tamber</dc:creator>
  <dc:description/>
  <dc:language>en-US</dc:language>
  <cp:lastModifiedBy>HSTamber</cp:lastModifiedBy>
  <dcterms:modified xsi:type="dcterms:W3CDTF">2009-09-29T20:16:11Z</dcterms:modified>
  <cp:revision>52</cp:revision>
  <dc:subject/>
  <dc:title>Slide 1</dc:title>
</cp:coreProperties>
</file>